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7BA3-B5EF-47E7-B5B4-0C8C9084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E3EC-61BF-49CD-926B-25CD5601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A0F-9EEB-46BA-8839-68982077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60D8-2124-448C-AD0E-CFD0B759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681F-3FCA-4F81-977B-6823654A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57BC-9C54-4A38-B9C9-5F45104E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9A73-8DB1-46F4-B252-C0B90031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A080-1CC8-4158-A80B-E7F66021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A95A-E2E6-47E4-83B0-B078FDB2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E80B-9827-4C6E-A790-96BEC9E5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7CF7-8218-4600-8B3E-E5E80FCC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F17-4632-4709-B716-48E17001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1F7E-D215-4570-B5B2-CAA4D40B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577D-3254-493A-AA4E-C0FCCED4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08B9-4816-4812-B005-219BFD3B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85F6-72B7-49C6-ADFD-8A949276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ABEF-7C41-4384-9D78-A74EC4E4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2D130-9C2F-4E98-9D98-CC6E607A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8985A-C65A-47EA-B687-EE808ABB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5CD13-F7C1-4FCB-89D9-43A55AA8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51C0A-C548-42CD-98DC-FD6B7512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BD6E0-BFDC-423F-B86D-1F68F602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189-9548-4C34-A98E-88F1C2E4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96F51-648D-4C4C-8475-9FE92766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A928A-027E-46D2-93B2-FCD62ED8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373D4-82ED-4962-B968-423D1DA8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5BFB1-1E54-4992-AD1F-63A1AB43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62D73-87C0-48E5-8C62-735DD35E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26E6F-684A-4C2B-AA5F-2F664BD9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5F9EF-E5E3-46D5-9382-8845BBAC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5D71C-FA9B-4E9F-887A-3C55C9C5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4B8B7-07F4-46F7-BB65-6C6C67B8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17429-D07D-4354-9C1D-4D056229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1459-B13C-4C9D-8F70-327893F5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6FF16-3B9C-4EEA-858E-99823C3F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F08C8-CE54-4BB8-B985-C32D6858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FA6A5-B689-49B1-AC8C-A81DE958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8D9C8-BEDB-450A-B0F3-886FB3F8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62447-3A46-4F6B-A66A-281FE1E2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C732A-FC1F-4FC3-8A8C-4D936C46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E133D-36FD-4DF1-9A86-0F02E810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EA309-E49E-46FD-B91A-CD4FDA9F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51988-60F3-4FF0-A3FD-3AE5E617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B4274-018F-42CB-9805-005F8246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6040-6E22-47F0-871A-1515E62A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B85D5-015A-41B9-8CA3-2AA9AC84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2E2AF-A25B-4E43-AB76-E03BDBB8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1E875-A30A-45F4-8F8D-102660D1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25D3C-DA9A-40CC-90F7-322DA36E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543EF-B3DD-465D-A088-17B1571B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7A767-C8E1-4CF4-A93B-23896DB4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0A84F-4B16-483C-AD6B-57402AC7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69527-8AA2-4294-8BE5-9FB99EE7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92E60-3B3F-4F86-BDFB-F83F440C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BB1CE-DAED-4354-8C6C-BE8F9F7F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1B16-6DD5-43CB-95C3-95E74004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7C3DE-35FB-4290-BDFA-32B7BC6F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7CD9B-D997-4AA3-8B20-97D41F04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C7998-0314-42DC-AD23-F93EEC10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932F7-8B71-4A40-9937-0589A66F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7EBA9-3E94-4B15-86DB-64277856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BB59C-D31D-4B62-BABA-60282DB0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B0C6E-D75E-4B51-A0AE-1A7DB3EB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C3502-FF31-436B-B2EE-792F884A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961DB-D03C-442F-BE35-07E8AEB1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AEF9B-A2BB-42F3-9B86-B1D1FE72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CA36-2887-4BE0-8BEF-D1A9B5FA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49C1E-E068-49F3-BD2D-3D79F0DC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E4CAF-4EAF-47F6-A87B-6FB7BEB7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EEE50-193E-4DAF-B033-81FB1365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29F6E-B5D6-4A78-963B-6B17DB65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136C7-42A2-4801-A349-FA0EAC35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C125D-70B5-40C6-BACB-C8658D5C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F50B1-B303-49B6-B983-C3023BB7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C5D11-40C8-47C6-85D7-0DB4C466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63452-F035-45A8-976A-8CC330FE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743AA-A73B-4892-B7BB-3C6A863E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5CCD-2D70-4F45-912C-2A7DBE57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45FA9-0A3A-4321-8706-D54C3BAD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5F620-289F-4B6B-AB82-AC94327C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62F54-EA25-483F-A5C7-F17D3F3A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05144-F1A7-4921-AF5E-FF2BEEDA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1363F-14E1-4F24-9CF3-B4592E77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97EB-94B4-47F5-BD80-D4391353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2D2C-69E4-451A-940D-3F97EB94B51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1674-140E-4B88-BD1A-12A29C35FA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E49A-A82A-4F83-A37B-4BD6A46995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17BD-4EBC-48CB-B49C-4F0711D0F2D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1C06-4B50-4512-9FF9-66691B7005C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0C91-4E5C-4CA1-B4EC-B6C53D6E829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9152-3DCE-4C4D-A6DC-865DCE57951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edweb.sdsu.edu/webquest/matrix.html" TargetMode="External"/><Relationship Id="rId3" Type="http://schemas.openxmlformats.org/officeDocument/2006/relationships/hyperlink" Target="http://asterix.ednet.1su.edu/~edtech/webquest/women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3" descr=""/>
          <p:cNvPicPr/>
          <p:nvPr/>
        </p:nvPicPr>
        <p:blipFill>
          <a:blip r:embed="rId1"/>
          <a:stretch/>
        </p:blipFill>
        <p:spPr>
          <a:xfrm>
            <a:off x="-6480" y="1146240"/>
            <a:ext cx="893124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view and validate all link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nsure all steps have resour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clude on and off-line resourc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-selec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Learners can focus their attention on the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opic rather than surf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Evaluation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ubrics (align to the process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Draft Rubric for Evaluating WebQues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ttp://edweb.sdsu/edu/webquest/webquestrubric.htm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ttp://www.techtrekers.com/rubrics.htm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cise, clear languag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istributed to stud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rmative (on going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ummativ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ks a clear, challenging ques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oes beyond reci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es multiple resour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ten involves group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lls for information manipul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collects the information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does the word processing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does the art work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does the scanning? video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project historian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ttp://webquest.sdsu.ed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ww.edhelper.com/cat311.ht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WW.google.com - type in topic and WebQuest  - For example “math WebQuest”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nd and research a WebQuest that could be used in your classroom. Document the WebQuest by making a copy. In a short essay explain how you would use the WebQuest in your classroom. Some students may be asked to give a presentation to the class.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Rectangle 2" descr=""/>
          <p:cNvPicPr/>
          <p:nvPr/>
        </p:nvPicPr>
        <p:blipFill>
          <a:blip r:embed="rId1"/>
          <a:stretch/>
        </p:blipFill>
        <p:spPr>
          <a:xfrm>
            <a:off x="115920" y="139680"/>
            <a:ext cx="8577360" cy="12747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atrix: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0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edweb.sdsu.edu/webquest/matrix.htm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omen in science: </a:t>
            </a:r>
            <a:r>
              <a:rPr b="0" lang="en-US" sz="2000" spc="-1" strike="noStrike" u="sng">
                <a:solidFill>
                  <a:srgbClr val="168bba"/>
                </a:solidFill>
                <a:uFillTx/>
                <a:latin typeface="Corbel"/>
                <a:hlinkClick r:id="rId3"/>
              </a:rPr>
              <a:t>http://asterix.ednet.1su.edu/~edtech/webquest/women.htm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oetry and Planet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ttp://www.lausd.k12.ca.us/lausd/resources/webquest/t-index.htm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ream Vacatio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http://www.manteno.k12.il.us/drussert/WebQuests/JackLally/Vaca98’.html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WebQuest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is defined,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Bernie Dodg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t San Diego State University, as “an inquiry-oriented activity in which some or all of the information that learners interact with comes from resources on the Internet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creases Student Motiv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vides Real world Experi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velops Higher Level Thinking Skil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motes Cooperative Learn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quiry-oriented approac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es pre-defined resources from the web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ased on engaging task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n be short or long term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ask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Introduction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ose a challeng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ersonaliz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member your audien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scribe what will happe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lett"/>
                <a:ea typeface="Marlett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ersonal relevan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lett"/>
                <a:ea typeface="Marlett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ersonal Interes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Task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ose a set of ques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scribe the end resul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yperStudio stack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owerPoint present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ral repor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stablish time lin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lign goals to standard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Procedure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ivide task into daily task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scriptions of roles/perspectiv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ign tasks wit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Key ques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utcom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8:23:11Z</dcterms:created>
  <dc:creator>Lora</dc:creator>
  <dc:description/>
  <dc:language>en-US</dc:language>
  <cp:lastModifiedBy>Brooklyn College</cp:lastModifiedBy>
  <dcterms:modified xsi:type="dcterms:W3CDTF">2010-07-19T23:14:56Z</dcterms:modified>
  <cp:revision>38</cp:revision>
  <dc:subject/>
  <dc:title>What is a WebQuest?</dc:title>
</cp:coreProperties>
</file>